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283-C389-43D4-85C2-333D71FE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8F9-D569-473B-A420-74773662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03F-A646-4A42-99A4-0F032C15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94F-94E8-4FA4-A689-AA192975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7160-33F8-40C8-A707-A3E28893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7065-7D2B-4FBD-9804-70540F19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F9EF-78DA-49F3-A7E0-4EF541E5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8DF2-28C6-4088-896C-7CC9DC1E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C675-8B56-4FFA-8636-4F59D2EF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EC60-2E57-43DC-ABE3-A424E2A9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74BA-A0D3-421F-8A38-5A0A684F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2B8-EE2E-437F-8795-F9870AFE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2A3C-F32B-4853-AD95-FDD4928B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F019-A229-4473-9FDC-A86F93E6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E2F-65DB-4394-AB5D-8C9B1C4F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3D3B-0EE5-4246-A41B-985843AF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9319-BC82-44AD-AE1A-3F73A0CD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64A-2E94-4238-B030-BDA49863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8C6-54AF-48AD-AF4B-1E9080A0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EB7-1533-4261-8A65-36199645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377-E50E-4362-9A44-9ED6B846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B0F-0BB3-4DC6-9D39-8E21F2DD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55E-F3D7-4F7F-A7FD-F7E0BD3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9DE-5B1C-4746-98AA-7271417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fdd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3e86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3e86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3e86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3e86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41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004161"/>
              </a:gs>
              <a:gs pos="100000">
                <a:srgbClr val="00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a3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a3e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a3e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a3e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a3e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B37A-3452-4C7D-9382-629D2E185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fdd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97960" y="1315080"/>
              <a:ext cx="438408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3e86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3e86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3e86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1a3e86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41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240" y="0"/>
              <a:ext cx="9131400" cy="1752480"/>
            </a:xfrm>
            <a:prstGeom prst="pie">
              <a:avLst/>
            </a:prstGeom>
            <a:gradFill rotWithShape="0">
              <a:gsLst>
                <a:gs pos="0">
                  <a:srgbClr val="004161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3e86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a3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a3e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a3e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a3e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a3e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e8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a3e8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988E-9953-4872-91DD-BDF631C812F3}" type="slidenum">
              <a:rPr b="0" lang="en-US" sz="1200" spc="-1" strike="noStrike">
                <a:solidFill>
                  <a:srgbClr val="1a3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0;%20&#1057;%20&#1055;&#1091;&#1096;&#1082;&#1080;&#1085;%20&#1047;&#1048;&#1052;&#1053;&#1045;&#1045;%20&#1059;&#1058;&#1056;&#1054;.mp4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lovopedia.com/2/208/256774.html" TargetMode="External"/><Relationship Id="rId2" Type="http://schemas.openxmlformats.org/officeDocument/2006/relationships/hyperlink" Target="http://ru.wikipedia.org/wiki/%CC%E5%F6%F6%EE%F4%E0%ED%F2%E8,_%C4%E6%F3%E7%E5%EF%EF%E5" TargetMode="External"/><Relationship Id="rId3" Type="http://schemas.openxmlformats.org/officeDocument/2006/relationships/hyperlink" Target="http://ru.wikipedia.org/wiki/%CC%E5%F6%F6%EE%F4%E0%ED%F2%E8,_%C4%E6%F3%E7%E5%EF%EF%E5" TargetMode="External"/><Relationship Id="rId4" Type="http://schemas.openxmlformats.org/officeDocument/2006/relationships/hyperlink" Target="http://ru.wikipedia.org/wiki/%CC%E5%F6%F6%EE%F4%E0%ED%F2%E8,_%C4%E6%F3%E7%E5%EF%EF%E5" TargetMode="External"/><Relationship Id="rId5" Type="http://schemas.openxmlformats.org/officeDocument/2006/relationships/hyperlink" Target="http://ru.wikipedia.org/wiki/%CC%E5%F6%F6%EE%F4%E0%ED%F2%E8,_%C4%E6%F3%E7%E5%EF%EF%E5" TargetMode="External"/><Relationship Id="rId6" Type="http://schemas.openxmlformats.org/officeDocument/2006/relationships/hyperlink" Target="http://ru.wikipedia.org/wiki/%CC%E5%F6%F6%EE%F4%E0%ED%F2%E8,_%C4%E6%F3%E7%E5%EF%EF%E5" TargetMode="External"/><Relationship Id="rId7" Type="http://schemas.openxmlformats.org/officeDocument/2006/relationships/hyperlink" Target="http://ru.wikipedia.org/wiki/%CC%E5%F6%F6%EE%F4%E0%ED%F2%E8,_%C4%E6%F3%E7%E5%EF%EF%E5" TargetMode="External"/><Relationship Id="rId8" Type="http://schemas.openxmlformats.org/officeDocument/2006/relationships/hyperlink" Target="http://ru.wikipedia.org/wiki/%CC%E5%F6%F6%EE%F4%E0%ED%F2%E8,_%C4%E6%F3%E7%E5%EF%EF%E5" TargetMode="External"/><Relationship Id="rId9" Type="http://schemas.openxmlformats.org/officeDocument/2006/relationships/hyperlink" Target="http://ru.wikipedia.org/wiki/%CC%E5%F6%F6%EE%F4%E0%ED%F2%E8,_%C4%E6%F3%E7%E5%EF%EF%E5" TargetMode="External"/><Relationship Id="rId10" Type="http://schemas.openxmlformats.org/officeDocument/2006/relationships/hyperlink" Target="http://ru.wikipedia.org/wiki/%CC%E5%F6%F6%EE%F4%E0%ED%F2%E8,_%C4%E6%F3%E7%E5%EF%EF%E5" TargetMode="External"/><Relationship Id="rId11" Type="http://schemas.openxmlformats.org/officeDocument/2006/relationships/hyperlink" Target="http://ru.wikipedia.org/wiki/%CC%E5%F6%F6%EE%F4%E0%ED%F2%E8,_%C4%E6%F3%E7%E5%EF%EF%E5" TargetMode="External"/><Relationship Id="rId12" Type="http://schemas.openxmlformats.org/officeDocument/2006/relationships/hyperlink" Target="http://ru.wikipedia.org/wiki/%D0%E0%F1%EA,_%D0%E0%F1%EC%F3%F1" TargetMode="External"/><Relationship Id="rId13" Type="http://schemas.openxmlformats.org/officeDocument/2006/relationships/hyperlink" Target="http://ru.wikipedia.org/wiki/%D0%E0%F1%EA,_%D0%E0%F1%EC%F3%F1" TargetMode="External"/><Relationship Id="rId14" Type="http://schemas.openxmlformats.org/officeDocument/2006/relationships/hyperlink" Target="http://ru.wikipedia.org/wiki/%D0%E0%F1%EA,_%D0%E0%F1%EC%F3%F1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785440" cy="30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9b5005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9b5005"/>
                </a:solidFill>
                <a:latin typeface="Cambria"/>
              </a:rPr>
              <a:t>Предложение как единица синтаксиса. </a:t>
            </a:r>
            <a:br>
              <a:rPr sz="3200"/>
            </a:br>
            <a:r>
              <a:rPr b="1" lang="ru-RU" sz="3200" spc="-1" strike="noStrike">
                <a:solidFill>
                  <a:srgbClr val="9b5005"/>
                </a:solidFill>
                <a:latin typeface="Cambria"/>
              </a:rPr>
              <a:t>Основные признаки предложения.</a:t>
            </a: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1a3e86"/>
                </a:solidFill>
                <a:latin typeface="Cambria"/>
              </a:rPr>
              <a:t>Интегрированный</a:t>
            </a:r>
            <a:br>
              <a:rPr sz="2000"/>
            </a:br>
            <a:r>
              <a:rPr b="1" lang="ru-RU" sz="2000" spc="-1" strike="noStrike">
                <a:solidFill>
                  <a:srgbClr val="1a3e86"/>
                </a:solidFill>
                <a:latin typeface="Cambria"/>
              </a:rPr>
              <a:t>урок русского и английского языков</a:t>
            </a:r>
            <a:br>
              <a:rPr sz="2000"/>
            </a:br>
            <a:r>
              <a:rPr b="1" lang="ru-RU" sz="2000" spc="-1" strike="noStrike">
                <a:solidFill>
                  <a:srgbClr val="1a3e86"/>
                </a:solidFill>
                <a:latin typeface="Cambria"/>
              </a:rPr>
              <a:t> в 8 классе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50560" y="4220640"/>
            <a:ext cx="60483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3e8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5005"/>
                </a:solidFill>
                <a:latin typeface="Cambria"/>
                <a:ea typeface="Times New Roman"/>
              </a:rPr>
              <a:t>Учитель русского языка : Резщикова В.К.</a:t>
            </a:r>
            <a:endParaRPr b="0" lang="en-US" sz="2000" spc="-1" strike="noStrike">
              <a:solidFill>
                <a:srgbClr val="1a3e8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5005"/>
                </a:solidFill>
                <a:latin typeface="Cambria"/>
                <a:ea typeface="Times New Roman"/>
              </a:rPr>
              <a:t>Учитель английского языка : Носкова Н.П.</a:t>
            </a:r>
            <a:endParaRPr b="0" lang="en-US" sz="2000" spc="-1" strike="noStrike">
              <a:solidFill>
                <a:srgbClr val="1a3e8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3e8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3e8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3e86"/>
                </a:solidFill>
                <a:latin typeface="Cambria"/>
                <a:ea typeface="Times New Roman"/>
              </a:rPr>
              <a:t>                                          </a:t>
            </a:r>
            <a:r>
              <a:rPr b="1" lang="ru-RU" sz="2000" spc="-1" strike="noStrike">
                <a:solidFill>
                  <a:srgbClr val="1a3e86"/>
                </a:solidFill>
                <a:latin typeface="Cambria"/>
                <a:ea typeface="Times New Roman"/>
              </a:rPr>
              <a:t>2014 год</a:t>
            </a:r>
            <a:endParaRPr b="0" lang="en-US" sz="2000" spc="-1" strike="noStrike">
              <a:solidFill>
                <a:srgbClr val="1a3e8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ергей Анатольевич Старостин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7120" y="2071440"/>
            <a:ext cx="47865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Знаком не меньше чем с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  <a:ea typeface="Times New Roman"/>
              </a:rPr>
              <a:t>400 языкам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, учитывая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древние и языки малых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вымирающих народов. Для того,  чтобы выучить язык, ему требовалось всего </a:t>
            </a:r>
            <a:r>
              <a:rPr b="0" lang="ru-RU" sz="2800" spc="-1" strike="noStrike">
                <a:solidFill>
                  <a:srgbClr val="c00000"/>
                </a:solidFill>
                <a:latin typeface="Cambria"/>
                <a:ea typeface="Times New Roman"/>
              </a:rPr>
              <a:t>три недели. 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583240" y="1785960"/>
            <a:ext cx="3164040" cy="84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Тема урок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8920" y="1267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mbria Math"/>
                <a:ea typeface="Cambria Math"/>
              </a:rPr>
              <a:t>Предложение как единица синтаксиса.</a:t>
            </a:r>
            <a:endParaRPr b="0" lang="en-US" sz="36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mbria Math"/>
                <a:ea typeface="Cambria Math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Cambria Math"/>
                <a:ea typeface="Cambria Math"/>
              </a:rPr>
              <a:t>Основные признаки предложения</a:t>
            </a:r>
            <a:r>
              <a:rPr b="1" lang="ru-RU" sz="3200" spc="-1" strike="noStrike">
                <a:solidFill>
                  <a:srgbClr val="6600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14320" y="-360"/>
            <a:ext cx="7143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сновные признаки предложения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71680" y="2071800"/>
          <a:ext cx="7858080" cy="85716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 русском языке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 английском языке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71680" y="3143160"/>
          <a:ext cx="7858080" cy="944640"/>
        </p:xfrm>
        <a:graphic>
          <a:graphicData uri="http://schemas.openxmlformats.org/drawingml/2006/table">
            <a:tbl>
              <a:tblPr/>
              <a:tblGrid>
                <a:gridCol w="7858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 Предложение выполняет </a:t>
                      </a: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коммуникативную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задачу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71680" y="4214880"/>
          <a:ext cx="7858080" cy="792000"/>
        </p:xfrm>
        <a:graphic>
          <a:graphicData uri="http://schemas.openxmlformats.org/drawingml/2006/table">
            <a:tbl>
              <a:tblPr/>
              <a:tblGrid>
                <a:gridCol w="7858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 Отличается </a:t>
                      </a: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смысловой законченностью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120" y="214200"/>
            <a:ext cx="7248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3. Структура предложения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(порядок слов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57120" y="1500120"/>
          <a:ext cx="8429760" cy="51768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 русском языке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b1d2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6699"/>
                          </a:solidFill>
                          <a:uFillTx/>
                          <a:latin typeface="Cambria"/>
                          <a:hlinkClick r:id="rId1" action="ppaction://hlinksldjump"/>
                        </a:rPr>
                        <a:t>В английском языке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b1d2d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28760" y="2500200"/>
          <a:ext cx="4286160" cy="94464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ямой, обратный (свободный)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714920" y="2500200"/>
          <a:ext cx="4143240" cy="94464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ямой, фиксированный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28760" y="3857760"/>
          <a:ext cx="4286160" cy="51732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вободн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714920" y="3857760"/>
          <a:ext cx="4191120" cy="52848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ратный, прямой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71760" y="2000160"/>
          <a:ext cx="6095880" cy="517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Повествовательное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643040" y="3357720"/>
          <a:ext cx="6095880" cy="517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ambria"/>
                        </a:rPr>
                        <a:t>Вопросительное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643040" y="4429080"/>
          <a:ext cx="6143760" cy="528840"/>
        </p:xfrm>
        <a:graphic>
          <a:graphicData uri="http://schemas.openxmlformats.org/drawingml/2006/table">
            <a:tbl>
              <a:tblPr/>
              <a:tblGrid>
                <a:gridCol w="614376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6699"/>
                          </a:solidFill>
                          <a:uFillTx/>
                          <a:latin typeface="Cambria"/>
                          <a:hlinkClick r:id="rId2" action="ppaction://hlinksldjump"/>
                        </a:rPr>
                        <a:t>Побудительное</a:t>
                      </a: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 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42960" y="5000760"/>
          <a:ext cx="4071960" cy="71424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вободный 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14920" y="5000760"/>
          <a:ext cx="4214880" cy="701640"/>
        </p:xfrm>
        <a:graphic>
          <a:graphicData uri="http://schemas.openxmlformats.org/drawingml/2006/table">
            <a:tbl>
              <a:tblPr/>
              <a:tblGrid>
                <a:gridCol w="4214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n’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+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нфинитив </a:t>
                      </a:r>
                      <a:endParaRPr b="0" lang="en-US" sz="20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ез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o</a:t>
                      </a:r>
                      <a:endParaRPr b="0" lang="en-US" sz="20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ypes of Question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6843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General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Yes / No)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 – 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общий вопрос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Special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Wh)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 – 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специальный вопрос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Alternative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or)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альтернативный вопрос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Disjunctive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Tag)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разделительный 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  <a:hlinkClick r:id="rId1" action="ppaction://hlinksldjump"/>
              </a:rPr>
              <a:t>вопрос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64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Imperative Sentenc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857160" y="2928960"/>
            <a:ext cx="307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3e86"/>
                </a:solidFill>
                <a:latin typeface="Cambria"/>
              </a:rPr>
              <a:t>Order  (</a:t>
            </a:r>
            <a:r>
              <a:rPr b="1" lang="ru-RU" sz="4400" spc="-1" strike="noStrike">
                <a:solidFill>
                  <a:srgbClr val="1a3e86"/>
                </a:solidFill>
                <a:latin typeface="Cambria"/>
              </a:rPr>
              <a:t>приказ</a:t>
            </a:r>
            <a:r>
              <a:rPr b="1" lang="en-US" sz="4400" spc="-1" strike="noStrike">
                <a:solidFill>
                  <a:srgbClr val="1a3e86"/>
                </a:solidFill>
                <a:latin typeface="Cambria"/>
              </a:rPr>
              <a:t>)</a:t>
            </a:r>
            <a:endParaRPr b="0" lang="en-US" sz="44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5143680" y="3000240"/>
            <a:ext cx="264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a3e86"/>
                </a:solidFill>
                <a:latin typeface="Cambria"/>
              </a:rPr>
              <a:t>Request </a:t>
            </a:r>
            <a:r>
              <a:rPr b="0" lang="en-US" sz="4000" spc="-1" strike="noStrike" u="sng">
                <a:solidFill>
                  <a:srgbClr val="006699"/>
                </a:solidFill>
                <a:uFillTx/>
                <a:latin typeface="Cambria"/>
                <a:hlinkClick r:id="rId1" action="ppaction://hlinksldjump"/>
              </a:rPr>
              <a:t>(</a:t>
            </a:r>
            <a:r>
              <a:rPr b="0" lang="ru-RU" sz="4000" spc="-1" strike="noStrike" u="sng">
                <a:solidFill>
                  <a:srgbClr val="006699"/>
                </a:solidFill>
                <a:uFillTx/>
                <a:latin typeface="Cambria"/>
                <a:hlinkClick r:id="rId2" action="ppaction://hlinksldjump"/>
              </a:rPr>
              <a:t>просьба</a:t>
            </a:r>
            <a:r>
              <a:rPr b="0" lang="en-US" sz="4000" spc="-1" strike="noStrike" u="sng">
                <a:solidFill>
                  <a:srgbClr val="006699"/>
                </a:solidFill>
                <a:uFillTx/>
                <a:latin typeface="Cambria"/>
                <a:hlinkClick r:id="rId3" action="ppaction://hlinksldjump"/>
              </a:rPr>
              <a:t>)</a:t>
            </a:r>
            <a:endParaRPr b="0" lang="en-US" sz="4000" spc="-1" strike="noStrike">
              <a:solidFill>
                <a:srgbClr val="1a3e86"/>
              </a:solidFill>
              <a:latin typeface="Arial"/>
            </a:endParaRPr>
          </a:p>
        </p:txBody>
      </p:sp>
      <p:cxnSp>
        <p:nvCxnSpPr>
          <p:cNvPr id="257" name="Прямая со стрелкой 5"/>
          <p:cNvCxnSpPr>
            <a:stCxn id="254" idx="2"/>
            <a:endCxn id="255" idx="0"/>
          </p:cNvCxnSpPr>
          <p:nvPr/>
        </p:nvCxnSpPr>
        <p:spPr>
          <a:xfrm flipH="1">
            <a:off x="2391840" y="773280"/>
            <a:ext cx="2316960" cy="2156400"/>
          </a:xfrm>
          <a:prstGeom prst="straightConnector1">
            <a:avLst/>
          </a:prstGeom>
          <a:ln w="38160">
            <a:solidFill>
              <a:srgbClr val="660066"/>
            </a:solidFill>
            <a:miter/>
            <a:tailEnd len="med" type="arrow" w="med"/>
          </a:ln>
        </p:spPr>
      </p:cxnSp>
      <p:cxnSp>
        <p:nvCxnSpPr>
          <p:cNvPr id="258" name="Прямая со стрелкой 7"/>
          <p:cNvCxnSpPr>
            <a:stCxn id="254" idx="2"/>
          </p:cNvCxnSpPr>
          <p:nvPr/>
        </p:nvCxnSpPr>
        <p:spPr>
          <a:xfrm>
            <a:off x="4707360" y="773280"/>
            <a:ext cx="1793160" cy="2156400"/>
          </a:xfrm>
          <a:prstGeom prst="straightConnector1">
            <a:avLst/>
          </a:prstGeom>
          <a:ln w="38160">
            <a:solidFill>
              <a:srgbClr val="660066"/>
            </a:solidFill>
            <a:miter/>
            <a:tailEnd len="med" type="arrow" w="med"/>
          </a:ln>
        </p:spPr>
      </p:cxn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mbria"/>
              </a:rPr>
              <a:t>теперьяподнимитетоже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85880" y="1071720"/>
            <a:ext cx="7758000" cy="54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 перья поднимите тоже.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 перья подними, те тоже.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 перья под ними, те тоже.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перь я под ними, те тоже.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перь я, поднимите тоже.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перь я, подними те тоже.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перь я, под ними те тож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  <a:ea typeface="Cambria Math"/>
              </a:rPr>
              <a:t>4. Интонация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76160" y="1347840"/>
          <a:ext cx="7758360" cy="866880"/>
        </p:xfrm>
        <a:graphic>
          <a:graphicData uri="http://schemas.openxmlformats.org/drawingml/2006/table">
            <a:tbl>
              <a:tblPr/>
              <a:tblGrid>
                <a:gridCol w="7758360"/>
              </a:tblGrid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.1 Несет 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смысловую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нагрузку</a:t>
                      </a: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857160" y="2643120"/>
          <a:ext cx="7643880" cy="78588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.2 Основные элементы интонаци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857160" y="3571920"/>
          <a:ext cx="7715520" cy="888840"/>
        </p:xfrm>
        <a:graphic>
          <a:graphicData uri="http://schemas.openxmlformats.org/drawingml/2006/table">
            <a:tbl>
              <a:tblPr/>
              <a:tblGrid>
                <a:gridCol w="771552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логическое ударение</a:t>
                      </a: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857160" y="4643280"/>
          <a:ext cx="7715520" cy="1000440"/>
        </p:xfrm>
        <a:graphic>
          <a:graphicData uri="http://schemas.openxmlformats.org/drawingml/2006/table">
            <a:tbl>
              <a:tblPr/>
              <a:tblGrid>
                <a:gridCol w="7715520"/>
              </a:tblGrid>
              <a:tr h="10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паузы</a:t>
                      </a: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857160" y="5857920"/>
          <a:ext cx="7715520" cy="714240"/>
        </p:xfrm>
        <a:graphic>
          <a:graphicData uri="http://schemas.openxmlformats.org/drawingml/2006/table">
            <a:tbl>
              <a:tblPr/>
              <a:tblGrid>
                <a:gridCol w="77155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мелодика</a:t>
                      </a: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cfdd"/>
                      </a:solidFill>
                    </a:lnL>
                    <a:lnR w="5760">
                      <a:solidFill>
                        <a:srgbClr val="c1cfdd"/>
                      </a:solidFill>
                    </a:lnR>
                    <a:lnT w="5760">
                      <a:solidFill>
                        <a:srgbClr val="c1cfdd"/>
                      </a:solidFill>
                    </a:lnT>
                    <a:lnB w="18720">
                      <a:solidFill>
                        <a:srgbClr val="c1cfdd"/>
                      </a:solidFill>
                    </a:lnB>
                    <a:solidFill>
                      <a:srgbClr val="4aaa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Условные обозначения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116000" y="1557360"/>
          <a:ext cx="7272360" cy="4784760"/>
        </p:xfrm>
        <a:graphic>
          <a:graphicData uri="http://schemas.openxmlformats.org/drawingml/2006/table">
            <a:tbl>
              <a:tblPr/>
              <a:tblGrid>
                <a:gridCol w="3672000"/>
                <a:gridCol w="3600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аузы</a:t>
                      </a: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e86"/>
                      </a:solidFill>
                    </a:lnL>
                    <a:lnR w="5760">
                      <a:solidFill>
                        <a:srgbClr val="1a3e86"/>
                      </a:solidFill>
                    </a:lnR>
                    <a:lnT w="5760">
                      <a:solidFill>
                        <a:srgbClr val="1a3e86"/>
                      </a:solidFill>
                    </a:lnT>
                    <a:lnB w="5760">
                      <a:solidFill>
                        <a:srgbClr val="1a3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/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///</a:t>
                      </a:r>
                      <a:endParaRPr b="0" lang="en-US" sz="40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e86"/>
                      </a:solidFill>
                    </a:lnL>
                    <a:lnR w="5760">
                      <a:solidFill>
                        <a:srgbClr val="1a3e86"/>
                      </a:solidFill>
                    </a:lnR>
                    <a:lnT w="5760">
                      <a:solidFill>
                        <a:srgbClr val="1a3e86"/>
                      </a:solidFill>
                    </a:lnT>
                    <a:lnB w="5760">
                      <a:solidFill>
                        <a:srgbClr val="1a3e8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огическое ударение</a:t>
                      </a: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e86"/>
                      </a:solidFill>
                    </a:lnL>
                    <a:lnR w="5760">
                      <a:solidFill>
                        <a:srgbClr val="1a3e86"/>
                      </a:solidFill>
                    </a:lnR>
                    <a:lnT w="5760">
                      <a:solidFill>
                        <a:srgbClr val="1a3e86"/>
                      </a:solidFill>
                    </a:lnT>
                    <a:lnB w="5760">
                      <a:solidFill>
                        <a:srgbClr val="1a3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4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e86"/>
                      </a:solidFill>
                    </a:lnL>
                    <a:lnR w="5760">
                      <a:solidFill>
                        <a:srgbClr val="1a3e86"/>
                      </a:solidFill>
                    </a:lnR>
                    <a:lnT w="5760">
                      <a:solidFill>
                        <a:srgbClr val="1a3e86"/>
                      </a:solidFill>
                    </a:lnT>
                    <a:lnB w="5760">
                      <a:solidFill>
                        <a:srgbClr val="1a3e86"/>
                      </a:solidFill>
                    </a:lnB>
                    <a:noFill/>
                  </a:tcPr>
                </a:tc>
              </a:tr>
              <a:tr h="30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елодика:</a:t>
                      </a: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вышение</a:t>
                      </a: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нижение </a:t>
                      </a: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e86"/>
                      </a:solidFill>
                    </a:lnL>
                    <a:lnR w="5760">
                      <a:solidFill>
                        <a:srgbClr val="1a3e86"/>
                      </a:solidFill>
                    </a:lnR>
                    <a:lnT w="5760">
                      <a:solidFill>
                        <a:srgbClr val="1a3e86"/>
                      </a:solidFill>
                    </a:lnT>
                    <a:lnB w="5760">
                      <a:solidFill>
                        <a:srgbClr val="1a3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a3e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e86"/>
                      </a:solidFill>
                    </a:lnL>
                    <a:lnR w="5760">
                      <a:solidFill>
                        <a:srgbClr val="1a3e86"/>
                      </a:solidFill>
                    </a:lnR>
                    <a:lnT w="5760">
                      <a:solidFill>
                        <a:srgbClr val="1a3e86"/>
                      </a:solidFill>
                    </a:lnT>
                    <a:lnB w="5760">
                      <a:solidFill>
                        <a:srgbClr val="1a3e8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Прямая со стрелкой 12"/>
          <p:cNvCxnSpPr/>
          <p:nvPr/>
        </p:nvCxnSpPr>
        <p:spPr>
          <a:xfrm flipV="1">
            <a:off x="5643360" y="3857400"/>
            <a:ext cx="935640" cy="57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Прямая со стрелкой 18"/>
          <p:cNvCxnSpPr/>
          <p:nvPr/>
        </p:nvCxnSpPr>
        <p:spPr>
          <a:xfrm>
            <a:off x="5643360" y="5429160"/>
            <a:ext cx="1152720" cy="43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643120" y="20952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«Зимнее утро»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99"/>
                </a:solidFill>
                <a:uFillTx/>
                <a:latin typeface="Cambria"/>
                <a:hlinkClick r:id="rId1"/>
              </a:rPr>
              <a:t>А.С. Пушкин</a:t>
            </a: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8929800" y="500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pic>
        <p:nvPicPr>
          <p:cNvPr id="274" name="А С Пушкин ЗИМНЕЕ УТРО_WMV V9.wmv" descr=""/>
          <p:cNvPicPr/>
          <p:nvPr/>
        </p:nvPicPr>
        <p:blipFill>
          <a:blip r:embed="rId2"/>
          <a:stretch/>
        </p:blipFill>
        <p:spPr>
          <a:xfrm>
            <a:off x="928800" y="92880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18096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интеграция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т </a:t>
            </a:r>
            <a:r>
              <a:rPr b="0" lang="ru-RU" sz="2800" spc="-1" strike="noStrike">
                <a:solidFill>
                  <a:srgbClr val="1a3e86"/>
                </a:solidFill>
                <a:latin typeface="Cambr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латинского </a:t>
            </a:r>
            <a:r>
              <a:rPr b="0" i="1" lang="en-US" sz="4000" spc="-1" strike="noStrike">
                <a:solidFill>
                  <a:srgbClr val="1a3e86"/>
                </a:solidFill>
                <a:latin typeface="Cambria"/>
              </a:rPr>
              <a:t>Integratio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осстановление,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осполнение, соединение -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процесс объединения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частей в целое </a:t>
            </a:r>
            <a:endParaRPr b="0" lang="en-US" sz="40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Словарь иностранных слов)</a:t>
            </a:r>
            <a:endParaRPr b="0" lang="en-US" sz="24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e8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"/>
              </a:rPr>
              <a:t>Мелодика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6" name="Содержимое 3" descr=""/>
          <p:cNvPicPr/>
          <p:nvPr/>
        </p:nvPicPr>
        <p:blipFill>
          <a:blip r:embed="rId1"/>
          <a:stretch/>
        </p:blipFill>
        <p:spPr>
          <a:xfrm>
            <a:off x="828720" y="1200240"/>
            <a:ext cx="7907400" cy="5634000"/>
          </a:xfrm>
          <a:prstGeom prst="rect">
            <a:avLst/>
          </a:prstGeom>
          <a:ln w="0">
            <a:noFill/>
          </a:ln>
        </p:spPr>
      </p:pic>
      <p:cxnSp>
        <p:nvCxnSpPr>
          <p:cNvPr id="277" name="Прямая со стрелкой 5"/>
          <p:cNvCxnSpPr/>
          <p:nvPr/>
        </p:nvCxnSpPr>
        <p:spPr>
          <a:xfrm>
            <a:off x="3785760" y="1999800"/>
            <a:ext cx="1367640" cy="505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Прямая со стрелкой 7"/>
          <p:cNvCxnSpPr/>
          <p:nvPr/>
        </p:nvCxnSpPr>
        <p:spPr>
          <a:xfrm flipV="1">
            <a:off x="3785760" y="3714480"/>
            <a:ext cx="129636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79" name="Прямая со стрелкой 9"/>
          <p:cNvCxnSpPr/>
          <p:nvPr/>
        </p:nvCxnSpPr>
        <p:spPr>
          <a:xfrm>
            <a:off x="3786120" y="5572080"/>
            <a:ext cx="1440360" cy="720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Line 7"/>
          <p:cNvSpPr/>
          <p:nvPr/>
        </p:nvSpPr>
        <p:spPr>
          <a:xfrm>
            <a:off x="6786720" y="1857240"/>
            <a:ext cx="143964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6429240" y="3357360"/>
            <a:ext cx="107964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7643880" y="3429000"/>
            <a:ext cx="93492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6215040" y="5286240"/>
            <a:ext cx="93672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7429680" y="5285880"/>
            <a:ext cx="10792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Intonatio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Give me the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book!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Give me the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 book,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lease!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Give me the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book,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  will you?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Will you give me the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 book!</a:t>
            </a:r>
            <a:endParaRPr b="0" lang="en-US" sz="32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3e86"/>
              </a:solidFill>
              <a:latin typeface="Verdana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5072040" y="1500120"/>
            <a:ext cx="289080" cy="3603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4071960" y="2643120"/>
            <a:ext cx="360360" cy="3603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 flipV="1">
            <a:off x="5643720" y="2642760"/>
            <a:ext cx="360360" cy="3603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4071960" y="3786120"/>
            <a:ext cx="287280" cy="3603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V="1">
            <a:off x="5429160" y="3785760"/>
            <a:ext cx="432000" cy="3603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 flipV="1">
            <a:off x="5786280" y="4928760"/>
            <a:ext cx="432000" cy="358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Домашнее задание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Cambria"/>
              </a:rPr>
              <a:t>Синквейн</a:t>
            </a:r>
            <a:endParaRPr b="0" lang="en-US" sz="44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a3e86"/>
                </a:solidFill>
                <a:latin typeface="Cambria"/>
              </a:rPr>
              <a:t>Предложение</a:t>
            </a:r>
            <a:endParaRPr b="0" lang="en-US" sz="6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a3e86"/>
                </a:solidFill>
                <a:latin typeface="Cambria"/>
              </a:rPr>
              <a:t>Sentence</a:t>
            </a:r>
            <a:endParaRPr b="0" lang="en-US" sz="6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a3e86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a3e8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3"/>
          <p:cNvSpPr txBox="1"/>
          <p:nvPr/>
        </p:nvSpPr>
        <p:spPr>
          <a:xfrm>
            <a:off x="971640" y="3500280"/>
            <a:ext cx="47433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6699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Cambria"/>
              </a:rPr>
              <a:t>Спасиб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6699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96" name="WordArt 3" descr=""/>
          <p:cNvPicPr/>
          <p:nvPr/>
        </p:nvPicPr>
        <p:blipFill>
          <a:blip r:embed="rId2"/>
          <a:stretch/>
        </p:blipFill>
        <p:spPr>
          <a:xfrm>
            <a:off x="987480" y="1700280"/>
            <a:ext cx="51688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точники информации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иболетова М.З., Трубанева Н.Н. Английския язык: Английский с удовольствием /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njoy English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: Учебник для 8 класса общеобразовательных учреждений – 2-е изд., исправ. и перераб. - Обнинск: Титул, 2014.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асюкова И.А. Словарь иностранных слов. – М.: АСТ – ПРЕСС, 1999.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Львова С.И. Русский язык. 8 класс: учебник для образовательных учреждений. В 2 частях. Ч. 1 / С.И. Львова, В.В. Львов – 7-е изд., испр. – М.: Мнемозина, 2009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1"/>
              </a:rPr>
              <a:t>slovopedia.com/2/208/256774.html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99"/>
                </a:solidFill>
                <a:uFillTx/>
                <a:latin typeface="Cambria"/>
                <a:hlinkClick r:id="rId2"/>
              </a:rPr>
              <a:t>ru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Cambria"/>
                <a:hlinkClick r:id="rId4"/>
              </a:rPr>
              <a:t>wikipedia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Cambria"/>
                <a:hlinkClick r:id="rId6"/>
              </a:rPr>
              <a:t>org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7"/>
              </a:rPr>
              <a:t>/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Cambria"/>
                <a:hlinkClick r:id="rId8"/>
              </a:rPr>
              <a:t>wiki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9"/>
              </a:rPr>
              <a:t>/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10"/>
              </a:rPr>
              <a:t>Меццофанти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11"/>
              </a:rPr>
              <a:t>..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12"/>
              </a:rPr>
              <a:t>ru.wikipedia.org/wiki/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13"/>
              </a:rPr>
              <a:t>Раск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Cambria"/>
                <a:hlinkClick r:id="rId14"/>
              </a:rPr>
              <a:t>,_Расмус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ru.wikipedia.org/wiki/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Вильямс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ru.wikipedia.org/wiki/Старостин..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ru.wikipedia.org/wiki/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Ломоносов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..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http://go.mail.ru/search_images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people.su/youtube_video-aspushki</a:t>
            </a: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4aa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3e8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3e8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mbria"/>
              </a:rPr>
              <a:t>полиглот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от греческого </a:t>
            </a:r>
            <a:r>
              <a:rPr b="0" lang="ru-RU" sz="4400" spc="-1" strike="noStrike">
                <a:solidFill>
                  <a:srgbClr val="660066"/>
                </a:solidFill>
                <a:latin typeface="Cambria"/>
              </a:rPr>
              <a:t>polyglottos</a:t>
            </a:r>
            <a:endParaRPr b="0" lang="en-US" sz="44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"многоязычный" –</a:t>
            </a:r>
            <a:endParaRPr b="0" lang="en-US" sz="44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человек, владеющий многими языками</a:t>
            </a:r>
            <a:endParaRPr b="0" lang="en-US" sz="4400" spc="-1" strike="noStrike">
              <a:solidFill>
                <a:srgbClr val="1a3e8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a3e8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Джузеппе Гаспаро Меццофанти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2" descr="H:\шаблоны интегриров2014\меццофанти.jpg"/>
          <p:cNvPicPr/>
          <p:nvPr/>
        </p:nvPicPr>
        <p:blipFill>
          <a:blip r:embed="rId1"/>
          <a:stretch/>
        </p:blipFill>
        <p:spPr>
          <a:xfrm>
            <a:off x="542880" y="1859040"/>
            <a:ext cx="4022640" cy="8845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a3e86"/>
              </a:solidFill>
              <a:latin typeface="Verdana"/>
            </a:endParaRPr>
          </a:p>
        </p:txBody>
      </p:sp>
      <p:pic>
        <p:nvPicPr>
          <p:cNvPr id="206" name="Прямоугольник 6" descr=""/>
          <p:cNvPicPr/>
          <p:nvPr/>
        </p:nvPicPr>
        <p:blipFill>
          <a:blip r:embed="rId2"/>
          <a:stretch/>
        </p:blipFill>
        <p:spPr>
          <a:xfrm>
            <a:off x="4694400" y="1779480"/>
            <a:ext cx="3895560" cy="46767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1785960" y="928800"/>
            <a:ext cx="63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 Math"/>
                <a:ea typeface="Cambria Math"/>
              </a:rPr>
              <a:t>(Giuseppe Gasparo Mezzofanti)</a:t>
            </a:r>
            <a:endParaRPr b="0" lang="en-US" sz="3200" spc="-1" strike="noStrike">
              <a:solidFill>
                <a:srgbClr val="1a3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Расмус Кристиан Раск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Rectangle 4" descr=""/>
          <p:cNvPicPr/>
          <p:nvPr/>
        </p:nvPicPr>
        <p:blipFill>
          <a:blip r:embed="rId1"/>
          <a:stretch/>
        </p:blipFill>
        <p:spPr>
          <a:xfrm>
            <a:off x="469800" y="1504800"/>
            <a:ext cx="4132440" cy="4835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:\шаблоны интегриров2014\раск.jpg"/>
          <p:cNvPicPr/>
          <p:nvPr/>
        </p:nvPicPr>
        <p:blipFill>
          <a:blip r:embed="rId2"/>
          <a:stretch/>
        </p:blipFill>
        <p:spPr>
          <a:xfrm>
            <a:off x="5078520" y="1560600"/>
            <a:ext cx="3589200" cy="86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mbria"/>
              </a:rPr>
              <a:t>Гарольд Уильямс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a3e86"/>
              </a:solidFill>
              <a:latin typeface="Verdan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151600" y="1932120"/>
            <a:ext cx="3359160" cy="88455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5" descr=""/>
          <p:cNvPicPr/>
          <p:nvPr/>
        </p:nvPicPr>
        <p:blipFill>
          <a:blip r:embed="rId2"/>
          <a:stretch/>
        </p:blipFill>
        <p:spPr>
          <a:xfrm>
            <a:off x="1152360" y="2676600"/>
            <a:ext cx="3516480" cy="2608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2071800" y="114300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 Math"/>
                <a:ea typeface="Cambria Math"/>
              </a:rPr>
              <a:t>(Harrold Williams)</a:t>
            </a:r>
            <a:endParaRPr b="0" lang="en-US" sz="3200" spc="-1" strike="noStrike">
              <a:solidFill>
                <a:srgbClr val="1a3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23556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Зияд Фавзи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356840"/>
            <a:ext cx="83534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лавным полиглотом планеты</a:t>
            </a:r>
            <a:endParaRPr b="0" lang="en-US" sz="36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 1997 год был признан 40-летний </a:t>
            </a:r>
            <a:r>
              <a:rPr b="1" lang="ru-RU" sz="3600" spc="-1" strike="noStrike">
                <a:solidFill>
                  <a:srgbClr val="c00000"/>
                </a:solidFill>
                <a:latin typeface="Cambria Math"/>
                <a:ea typeface="Cambria Math"/>
              </a:rPr>
              <a:t>Зияд Фавзи</a:t>
            </a:r>
            <a:r>
              <a:rPr b="0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, бразилец ливанского происхождения, владеющий </a:t>
            </a:r>
            <a:endParaRPr b="0" lang="en-US" sz="3600" spc="-1" strike="noStrike">
              <a:solidFill>
                <a:srgbClr val="1a3e8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mbria Math"/>
                <a:ea typeface="Cambria Math"/>
              </a:rPr>
              <a:t>58 языками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1a3e8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3e8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 Math"/>
                <a:ea typeface="Cambria Math"/>
              </a:rPr>
              <a:t>Михаил Васильевич Ломоносов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a3e86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89040" y="1932120"/>
            <a:ext cx="3157560" cy="8113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57200" cy="582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144360" y="144360"/>
            <a:ext cx="457200" cy="5828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7" descr=""/>
          <p:cNvPicPr/>
          <p:nvPr/>
        </p:nvPicPr>
        <p:blipFill>
          <a:blip r:embed="rId4"/>
          <a:stretch/>
        </p:blipFill>
        <p:spPr>
          <a:xfrm>
            <a:off x="4280040" y="2182680"/>
            <a:ext cx="39369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митрий Юрьевич Петров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15960" y="2000160"/>
            <a:ext cx="3376440" cy="741204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5" descr=""/>
          <p:cNvPicPr/>
          <p:nvPr/>
        </p:nvPicPr>
        <p:blipFill>
          <a:blip r:embed="rId2"/>
          <a:stretch/>
        </p:blipFill>
        <p:spPr>
          <a:xfrm>
            <a:off x="4151160" y="2077920"/>
            <a:ext cx="486432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3:20:20Z</dcterms:created>
  <dc:creator>Loner-XP</dc:creator>
  <dc:description/>
  <dc:language>en-US</dc:language>
  <cp:lastModifiedBy>22</cp:lastModifiedBy>
  <dcterms:modified xsi:type="dcterms:W3CDTF">2014-05-27T09:41:26Z</dcterms:modified>
  <cp:revision>77</cp:revision>
  <dc:subject/>
  <dc:title>Интегрированный урок  русского и английского языков</dc:title>
</cp:coreProperties>
</file>